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1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32.gif" ContentType="image/gif"/>
  <Override PartName="/ppt/media/image23.gif" ContentType="image/gif"/>
  <Override PartName="/ppt/media/image4.png" ContentType="image/png"/>
  <Override PartName="/ppt/media/image24.gif" ContentType="image/gif"/>
  <Override PartName="/ppt/media/image6.gif" ContentType="image/gif"/>
  <Override PartName="/ppt/media/image29.gif" ContentType="image/gif"/>
  <Override PartName="/ppt/media/image26.jpeg" ContentType="image/jpeg"/>
  <Override PartName="/ppt/media/image7.gif" ContentType="image/gif"/>
  <Override PartName="/ppt/media/image8.gif" ContentType="image/gif"/>
  <Override PartName="/ppt/media/image10.gif" ContentType="image/gif"/>
  <Override PartName="/ppt/media/image11.jpeg" ContentType="image/jpeg"/>
  <Override PartName="/ppt/media/clap.wav" ContentType="audio/x-wav"/>
  <Override PartName="/ppt/media/image9.gif" ContentType="image/gif"/>
  <Override PartName="/ppt/media/image16.jpeg" ContentType="image/jpeg"/>
  <Override PartName="/ppt/media/image30.gif" ContentType="image/gif"/>
  <Override PartName="/ppt/media/applause.wav" ContentType="audio/x-wav"/>
  <Override PartName="/ppt/media/image33.gif" ContentType="image/gif"/>
  <Override PartName="/ppt/media/image3.gif" ContentType="image/gif"/>
  <Override PartName="/ppt/media/image25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8.jpeg" ContentType="image/jpeg"/>
  <Override PartName="/ppt/media/image5.jpeg" ContentType="image/jpeg"/>
  <Override PartName="/ppt/media/explode.wav" ContentType="audio/x-wav"/>
  <Override PartName="/ppt/media/image15.gif" ContentType="image/gif"/>
  <Override PartName="/ppt/media/image13.jpeg" ContentType="image/jpeg"/>
  <Override PartName="/ppt/media/image18.gif" ContentType="image/gif"/>
  <Override PartName="/ppt/media/image31.jpeg" ContentType="image/jpeg"/>
  <Override PartName="/ppt/media/image14.gif" ContentType="image/gif"/>
  <Override PartName="/ppt/media/image17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1338-9463-462A-9413-14B4EFDF35D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3DC5-4B71-44DD-9831-8C47761D50D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0831-7D63-426E-911C-3AE1F0C189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AE4-ED44-40C8-A90E-FC9975FD5D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27B-1337-4823-8F7A-8BBD221775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E26-1FC4-410E-9695-1164E6E90A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03A-4AA1-48D8-A6E2-F62B996759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6B38-B467-4825-9181-FD357E694A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D9B-3DC2-4C7B-8E57-588ED1D03B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0FB1-08D9-4CF9-B53E-2DF22B2721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459-96E8-4701-B822-19D2C09643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771B-F8E3-4F38-BB55-6598C50927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FC19-D5F6-46D8-8D56-7306A0368B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079C-5D72-4197-9639-6147A9BB07F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D48C-5A0D-467B-A32D-684EB738AC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03CC-485B-4967-AAFB-0C46482BCBF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1872-5FA0-4E43-BD85-9A6EE9B3686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F48A-0117-4D5D-9A02-D5D01811A8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6A1C-E1A6-4F86-B3AF-1449A3A6D2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E2D-37AD-405B-9112-80EE544228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FBE2-5C8A-4AE1-A873-F7EB71714B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32F-F533-4CC5-AAD2-35C051F4B0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1055-F8A7-49FA-836F-9992ED33C9F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FC3-1FC1-4473-A055-A7F4B458A9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6C1-F853-4C1F-8129-631CDB2F75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5F0F-558E-4989-BDBE-4DFA2A7BC1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B06E-0072-471E-85C8-41B9CB751DC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C7B9-E3EB-44B6-B9C1-AE4BCCC1F4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73B7-DA74-4529-9E90-4630FE4D22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DB06-4CDB-4C9A-8C15-A54A6AAC37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1E2C-F46D-4B9C-B60A-4650E8B9F42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EA22-5260-4045-BA6D-8C4031C37B4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E84-1EF8-4C8A-A647-F203CAB49A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CCF-31A3-4022-A5D6-6456D836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53C-B119-48C7-9E7B-7E23B2A2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F72-0555-4752-BE20-C7B30AA6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E6B-E0B1-4E38-8DD5-CBE06CA3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EA2-C1F2-413C-9B56-F8ADB96C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631-6BE2-41A7-BCDA-65A8D3BA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CE3-7801-4EC1-869C-07EFE86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2EB-52F0-4CCF-9CB2-8920044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D43-87FE-4C71-A226-48D917F4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2E1-82B1-46F9-A7AB-DD48DCF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E26-F0F1-4642-91B1-C490284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053-7239-4DA0-9258-45F70E3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F8F4-6FB6-4C46-9EC7-2213EC4497C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2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9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4.xml"/><Relationship Id="rId3" Type="http://schemas.openxmlformats.org/officeDocument/2006/relationships/image" Target="../media/image9.gif"/><Relationship Id="rId4" Type="http://schemas.openxmlformats.org/officeDocument/2006/relationships/slide" Target="slide13.xml"/><Relationship Id="rId5" Type="http://schemas.openxmlformats.org/officeDocument/2006/relationships/image" Target="../media/image9.gif"/><Relationship Id="rId6" Type="http://schemas.openxmlformats.org/officeDocument/2006/relationships/slide" Target="slide14.xml"/><Relationship Id="rId7" Type="http://schemas.openxmlformats.org/officeDocument/2006/relationships/image" Target="../media/image9.gif"/><Relationship Id="rId8" Type="http://schemas.openxmlformats.org/officeDocument/2006/relationships/image" Target="../media/image21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5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2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7.xml"/><Relationship Id="rId3" Type="http://schemas.openxmlformats.org/officeDocument/2006/relationships/image" Target="../media/image9.gif"/><Relationship Id="rId4" Type="http://schemas.openxmlformats.org/officeDocument/2006/relationships/slide" Target="slide17.xml"/><Relationship Id="rId5" Type="http://schemas.openxmlformats.org/officeDocument/2006/relationships/image" Target="../media/image9.gif"/><Relationship Id="rId6" Type="http://schemas.openxmlformats.org/officeDocument/2006/relationships/slide" Target="slide16.xml"/><Relationship Id="rId7" Type="http://schemas.openxmlformats.org/officeDocument/2006/relationships/image" Target="../media/image9.gif"/><Relationship Id="rId8" Type="http://schemas.openxmlformats.org/officeDocument/2006/relationships/image" Target="../media/image23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8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5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0.xml"/><Relationship Id="rId3" Type="http://schemas.openxmlformats.org/officeDocument/2006/relationships/image" Target="../media/image9.gif"/><Relationship Id="rId4" Type="http://schemas.openxmlformats.org/officeDocument/2006/relationships/slide" Target="slide20.xml"/><Relationship Id="rId5" Type="http://schemas.openxmlformats.org/officeDocument/2006/relationships/image" Target="../media/image9.gif"/><Relationship Id="rId6" Type="http://schemas.openxmlformats.org/officeDocument/2006/relationships/slide" Target="slide19.xml"/><Relationship Id="rId7" Type="http://schemas.openxmlformats.org/officeDocument/2006/relationships/image" Target="../media/image9.gif"/><Relationship Id="rId8" Type="http://schemas.openxmlformats.org/officeDocument/2006/relationships/image" Target="../media/image24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1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" Target="slide3.xm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3.xml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2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4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2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4.xml"/><Relationship Id="rId3" Type="http://schemas.openxmlformats.org/officeDocument/2006/relationships/image" Target="../media/image9.gif"/><Relationship Id="rId4" Type="http://schemas.openxmlformats.org/officeDocument/2006/relationships/slide" Target="slide5.xml"/><Relationship Id="rId5" Type="http://schemas.openxmlformats.org/officeDocument/2006/relationships/image" Target="../media/image9.gif"/><Relationship Id="rId6" Type="http://schemas.openxmlformats.org/officeDocument/2006/relationships/slide" Target="slide5.xml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6.gif"/><Relationship Id="rId6" Type="http://schemas.openxmlformats.org/officeDocument/2006/relationships/image" Target="../media/image10.gif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4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8.xml"/><Relationship Id="rId3" Type="http://schemas.openxmlformats.org/officeDocument/2006/relationships/image" Target="../media/image9.gif"/><Relationship Id="rId4" Type="http://schemas.openxmlformats.org/officeDocument/2006/relationships/slide" Target="slide8.xml"/><Relationship Id="rId5" Type="http://schemas.openxmlformats.org/officeDocument/2006/relationships/image" Target="../media/image9.gif"/><Relationship Id="rId6" Type="http://schemas.openxmlformats.org/officeDocument/2006/relationships/slide" Target="slide7.xml"/><Relationship Id="rId7" Type="http://schemas.openxmlformats.org/officeDocument/2006/relationships/image" Target="../media/image9.gif"/><Relationship Id="rId8" Type="http://schemas.openxmlformats.org/officeDocument/2006/relationships/image" Target="../media/image1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image" Target="../media/image12.gi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1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1.xml"/><Relationship Id="rId3" Type="http://schemas.openxmlformats.org/officeDocument/2006/relationships/image" Target="../media/image9.gif"/><Relationship Id="rId4" Type="http://schemas.openxmlformats.org/officeDocument/2006/relationships/slide" Target="slide10.xml"/><Relationship Id="rId5" Type="http://schemas.openxmlformats.org/officeDocument/2006/relationships/image" Target="../media/image9.gif"/><Relationship Id="rId6" Type="http://schemas.openxmlformats.org/officeDocument/2006/relationships/image" Target="../media/image18.gif"/><Relationship Id="rId7" Type="http://schemas.openxmlformats.org/officeDocument/2006/relationships/slide" Target="slide11.xml"/><Relationship Id="rId8" Type="http://schemas.openxmlformats.org/officeDocument/2006/relationships/image" Target="../media/image9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457200" y="5715000"/>
            <a:ext cx="1819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CQ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666880" y="5791320"/>
            <a:ext cx="1276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QU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276720" y="2286000"/>
            <a:ext cx="236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QUI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1" name="Picture 5" descr="C:\Documents and Settings\Enrico\Documenti\Immagini\acqua\w8.gif"/>
          <p:cNvPicPr/>
          <p:nvPr/>
        </p:nvPicPr>
        <p:blipFill>
          <a:blip r:embed="rId2"/>
          <a:stretch/>
        </p:blipFill>
        <p:spPr>
          <a:xfrm>
            <a:off x="7315200" y="68580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Enrico\Documenti\Immagini\acqua\w8.gif"/>
          <p:cNvPicPr/>
          <p:nvPr/>
        </p:nvPicPr>
        <p:blipFill>
          <a:blip r:embed="rId3"/>
          <a:stretch/>
        </p:blipFill>
        <p:spPr>
          <a:xfrm>
            <a:off x="990720" y="533520"/>
            <a:ext cx="1268280" cy="123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Enrico\Documenti\Immagini\acqua\w8.gif"/>
          <p:cNvPicPr/>
          <p:nvPr/>
        </p:nvPicPr>
        <p:blipFill>
          <a:blip r:embed="rId4"/>
          <a:stretch/>
        </p:blipFill>
        <p:spPr>
          <a:xfrm>
            <a:off x="3429000" y="38088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Enrico\Documenti\Immagini\acqua\w8.gif"/>
          <p:cNvPicPr/>
          <p:nvPr/>
        </p:nvPicPr>
        <p:blipFill>
          <a:blip r:embed="rId5"/>
          <a:stretch/>
        </p:blipFill>
        <p:spPr>
          <a:xfrm>
            <a:off x="838080" y="2057400"/>
            <a:ext cx="1268640" cy="123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Documents and Settings\Enrico\Documenti\Immagini\acqua\w8.gif"/>
          <p:cNvPicPr/>
          <p:nvPr/>
        </p:nvPicPr>
        <p:blipFill>
          <a:blip r:embed="rId6"/>
          <a:stretch/>
        </p:blipFill>
        <p:spPr>
          <a:xfrm>
            <a:off x="7238880" y="3276720"/>
            <a:ext cx="1268640" cy="1234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C:\Documents and Settings\Enrico\Documenti\Immagini\acqua\w8.gif"/>
          <p:cNvPicPr/>
          <p:nvPr/>
        </p:nvPicPr>
        <p:blipFill>
          <a:blip r:embed="rId7"/>
          <a:stretch/>
        </p:blipFill>
        <p:spPr>
          <a:xfrm>
            <a:off x="7516800" y="511812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Documents and Settings\Enrico\Documenti\Immagini\acqua\w8.gif"/>
          <p:cNvPicPr/>
          <p:nvPr/>
        </p:nvPicPr>
        <p:blipFill>
          <a:blip r:embed="rId8"/>
          <a:stretch/>
        </p:blipFill>
        <p:spPr>
          <a:xfrm>
            <a:off x="4876920" y="68580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:\Documents and Settings\Enrico\Documenti\Immagini\acqua\w8.gif"/>
          <p:cNvPicPr/>
          <p:nvPr/>
        </p:nvPicPr>
        <p:blipFill>
          <a:blip r:embed="rId9"/>
          <a:stretch/>
        </p:blipFill>
        <p:spPr>
          <a:xfrm>
            <a:off x="7467480" y="1371600"/>
            <a:ext cx="1268640" cy="123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C:\Documents and Settings\Enrico\Documenti\Immagini\acqua\w8.gif"/>
          <p:cNvPicPr/>
          <p:nvPr/>
        </p:nvPicPr>
        <p:blipFill>
          <a:blip r:embed="rId10"/>
          <a:stretch/>
        </p:blipFill>
        <p:spPr>
          <a:xfrm>
            <a:off x="7467480" y="5181480"/>
            <a:ext cx="1268640" cy="1235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C:\Documents and Settings\Enrico\Documenti\Immagini\acqua\w8.gif"/>
          <p:cNvPicPr/>
          <p:nvPr/>
        </p:nvPicPr>
        <p:blipFill>
          <a:blip r:embed="rId11"/>
          <a:stretch/>
        </p:blipFill>
        <p:spPr>
          <a:xfrm>
            <a:off x="5943600" y="114300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Documents and Settings\Enrico\Documenti\Immagini\acqua\w8.gif"/>
          <p:cNvPicPr/>
          <p:nvPr/>
        </p:nvPicPr>
        <p:blipFill>
          <a:blip r:embed="rId12"/>
          <a:stretch/>
        </p:blipFill>
        <p:spPr>
          <a:xfrm>
            <a:off x="1828800" y="1066680"/>
            <a:ext cx="1268280" cy="1235160"/>
          </a:xfrm>
          <a:prstGeom prst="rect">
            <a:avLst/>
          </a:prstGeom>
          <a:ln w="0">
            <a:noFill/>
          </a:ln>
        </p:spPr>
      </p:pic>
      <p:pic>
        <p:nvPicPr>
          <p:cNvPr id="62" name="Katy Perry Hot n Cold (with lyrics).mp3" descr=""/>
          <p:cNvPicPr/>
          <p:nvPr/>
        </p:nvPicPr>
        <p:blipFill>
          <a:blip r:embed="rId13"/>
          <a:stretch/>
        </p:blipFill>
        <p:spPr>
          <a:xfrm>
            <a:off x="7523280" y="62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5800" y="33526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06" name="Picture 3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447920" y="762120"/>
            <a:ext cx="5624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9" name="Picture 3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10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3520" y="1981080"/>
            <a:ext cx="8229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Dai fiumi e dai m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Da sorgenti e falde                acquif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Dalla  piog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7732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bottone0068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77320" y="5029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609480" y="533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457200" y="5335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04920" y="838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Da dove deriva l’ 85% dell’ acqua del rubinet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9" descr="4"/>
          <p:cNvPicPr/>
          <p:nvPr/>
        </p:nvPicPr>
        <p:blipFill>
          <a:blip r:embed="rId8"/>
          <a:stretch/>
        </p:blipFill>
        <p:spPr>
          <a:xfrm>
            <a:off x="380880" y="304920"/>
            <a:ext cx="460440" cy="460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7620120" y="762120"/>
            <a:ext cx="109692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685800" y="35812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21" name="Picture 3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600200" y="762120"/>
            <a:ext cx="54720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4" name="Picture 3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25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447920" y="160020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" y="1523880"/>
            <a:ext cx="8458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Perché molto presto la popolazione aumenterà e l’acqua non baster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Perché domani servirà per bagnare le pi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Perché i ghiacciai non si scioglieranno ma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5334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bottone0068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53280" y="2133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457200" y="6555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Perché  risparmiare</a:t>
            </a: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  </a:t>
            </a: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cqu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5"/>
          <p:cNvPicPr/>
          <p:nvPr/>
        </p:nvPicPr>
        <p:blipFill>
          <a:blip r:embed="rId8"/>
          <a:stretch/>
        </p:blipFill>
        <p:spPr>
          <a:xfrm>
            <a:off x="45720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6019920" y="5638680"/>
            <a:ext cx="109692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685800" y="33526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35" name="Picture 3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600200" y="762120"/>
            <a:ext cx="54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Picture 3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219320" y="1219320"/>
            <a:ext cx="693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2971800"/>
            <a:ext cx="85345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Perché non sanno cosa sono i matt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Perché amano il fred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Perché il ghiaccio è un buon isolante ter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441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bottone0068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5486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228600" y="762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Perché gli eschimesi costruiscono le loro case con il ghiacc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6"/>
          <p:cNvPicPr/>
          <p:nvPr/>
        </p:nvPicPr>
        <p:blipFill>
          <a:blip r:embed="rId8"/>
          <a:stretch/>
        </p:blipFill>
        <p:spPr>
          <a:xfrm>
            <a:off x="45720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6934320" y="304920"/>
            <a:ext cx="109692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685800" y="33526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49" name="Picture 3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762120" y="533520"/>
            <a:ext cx="792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44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Lucida Handwriting"/>
              </a:rPr>
              <a:t>Siete pronti a salpare?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Lucida Handwriting"/>
              <a:ea typeface="Lucida Handwriting"/>
            </a:endParaRPr>
          </a:p>
        </p:txBody>
      </p:sp>
      <p:pic>
        <p:nvPicPr>
          <p:cNvPr id="64" name="Picture 8" descr="C:\Documents and Settings\Enrico\Documenti\Immagini\acqua\mare002.gif"/>
          <p:cNvPicPr/>
          <p:nvPr/>
        </p:nvPicPr>
        <p:blipFill>
          <a:blip r:embed="rId3"/>
          <a:stretch/>
        </p:blipFill>
        <p:spPr>
          <a:xfrm>
            <a:off x="3124080" y="2971800"/>
            <a:ext cx="2590920" cy="1763640"/>
          </a:xfrm>
          <a:prstGeom prst="rect">
            <a:avLst/>
          </a:prstGeom>
          <a:ln w="0">
            <a:noFill/>
          </a:ln>
        </p:spPr>
      </p:pic>
      <p:sp>
        <p:nvSpPr>
          <p:cNvPr id="65" name="WordArt 12"/>
          <p:cNvSpPr txBox="1"/>
          <p:nvPr/>
        </p:nvSpPr>
        <p:spPr>
          <a:xfrm>
            <a:off x="228600" y="5791320"/>
            <a:ext cx="7553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er iniziare il gioco clicca qu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" name="Picture 14" descr="C:\Documents and Settings\Enrico\Documenti\Immagini\acqua\h-earth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48720" y="563868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600200" y="762120"/>
            <a:ext cx="54720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Picture 3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28600" y="2209680"/>
            <a:ext cx="84582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È la spinta che Archimede dà ad un suo a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È la forza che spinge verso l’alto  un corpo immerso in un liqu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È un fallo nel gioco di pallanu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5715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bottone00684"/>
          <p:cNvPicPr/>
          <p:nvPr/>
        </p:nvPicPr>
        <p:blipFill>
          <a:blip r:embed="rId4"/>
          <a:stretch/>
        </p:blipFill>
        <p:spPr>
          <a:xfrm>
            <a:off x="8458200" y="4343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ottone00684"/>
          <p:cNvPicPr/>
          <p:nvPr/>
        </p:nvPicPr>
        <p:blipFill>
          <a:blip r:embed="rId5"/>
          <a:stretch/>
        </p:blipFill>
        <p:spPr>
          <a:xfrm>
            <a:off x="8458200" y="2743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533520" y="762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os’ è la spinta di Archime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7"/>
          <p:cNvPicPr/>
          <p:nvPr/>
        </p:nvPicPr>
        <p:blipFill>
          <a:blip r:embed="rId6"/>
          <a:stretch/>
        </p:blipFill>
        <p:spPr>
          <a:xfrm>
            <a:off x="45720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Documents and Settings\Enrico\Documenti\acqua\mare002.gif"/>
          <p:cNvPicPr/>
          <p:nvPr/>
        </p:nvPicPr>
        <p:blipFill>
          <a:blip r:embed="rId7"/>
          <a:stretch/>
        </p:blipFill>
        <p:spPr>
          <a:xfrm>
            <a:off x="3505320" y="1295280"/>
            <a:ext cx="109692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2"/>
          <p:cNvSpPr txBox="1"/>
          <p:nvPr/>
        </p:nvSpPr>
        <p:spPr>
          <a:xfrm>
            <a:off x="685800" y="35812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62" name="Picture 3" descr="2bottone"/>
          <p:cNvPicPr/>
          <p:nvPr/>
        </p:nvPicPr>
        <p:blipFill>
          <a:blip r:embed="rId2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63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447920" y="762120"/>
            <a:ext cx="5624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5" name="Picture 3" descr="C:\Documents and Settings\Enrico\Documenti\acqua\mare003.gif"/>
          <p:cNvPicPr/>
          <p:nvPr/>
        </p:nvPicPr>
        <p:blipFill>
          <a:blip r:embed="rId2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198108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Oleodo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Acquedo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Cano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ttone00684"/>
          <p:cNvPicPr/>
          <p:nvPr/>
        </p:nvPicPr>
        <p:blipFill>
          <a:blip r:embed="rId2"/>
          <a:stretch/>
        </p:blipFill>
        <p:spPr>
          <a:xfrm>
            <a:off x="579132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bottone00684"/>
          <p:cNvPicPr/>
          <p:nvPr/>
        </p:nvPicPr>
        <p:blipFill>
          <a:blip r:embed="rId3"/>
          <a:stretch/>
        </p:blipFill>
        <p:spPr>
          <a:xfrm>
            <a:off x="57913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ottone00684"/>
          <p:cNvPicPr/>
          <p:nvPr/>
        </p:nvPicPr>
        <p:blipFill>
          <a:blip r:embed="rId4"/>
          <a:stretch/>
        </p:blipFill>
        <p:spPr>
          <a:xfrm>
            <a:off x="579132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609480" y="533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57200" y="5335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52280" y="838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ome si chiama il posto dove si accumula l’acqu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C:\Documents and Settings\Enrico\Documenti\acqua\mare002.gif"/>
          <p:cNvPicPr/>
          <p:nvPr/>
        </p:nvPicPr>
        <p:blipFill>
          <a:blip r:embed="rId5"/>
          <a:stretch/>
        </p:blipFill>
        <p:spPr>
          <a:xfrm>
            <a:off x="6172200" y="1600200"/>
            <a:ext cx="1096920" cy="982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8"/>
          <p:cNvPicPr/>
          <p:nvPr/>
        </p:nvPicPr>
        <p:blipFill>
          <a:blip r:embed="rId6"/>
          <a:stretch/>
        </p:blipFill>
        <p:spPr>
          <a:xfrm>
            <a:off x="304920" y="152280"/>
            <a:ext cx="460080" cy="4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33526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77" name="Picture 3" descr="2bottone"/>
          <p:cNvPicPr/>
          <p:nvPr/>
        </p:nvPicPr>
        <p:blipFill>
          <a:blip r:embed="rId2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78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1600200" y="762120"/>
            <a:ext cx="54720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0" name="Picture 3" descr="C:\Documents and Settings\Enrico\Documenti\acqua\mare003.gif"/>
          <p:cNvPicPr/>
          <p:nvPr/>
        </p:nvPicPr>
        <p:blipFill>
          <a:blip r:embed="rId2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33520" y="198108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F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Sor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Fog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bottone00684"/>
          <p:cNvPicPr/>
          <p:nvPr/>
        </p:nvPicPr>
        <p:blipFill>
          <a:blip r:embed="rId2"/>
          <a:stretch/>
        </p:blipFill>
        <p:spPr>
          <a:xfrm>
            <a:off x="53341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bottone00684"/>
          <p:cNvPicPr/>
          <p:nvPr/>
        </p:nvPicPr>
        <p:blipFill>
          <a:blip r:embed="rId3"/>
          <a:stretch/>
        </p:blipFill>
        <p:spPr>
          <a:xfrm>
            <a:off x="53341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ottone00684"/>
          <p:cNvPicPr/>
          <p:nvPr/>
        </p:nvPicPr>
        <p:blipFill>
          <a:blip r:embed="rId4"/>
          <a:stretch/>
        </p:blipFill>
        <p:spPr>
          <a:xfrm>
            <a:off x="533412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609480" y="533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5335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52280" y="838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ome si chiama un corso d’acqua sotterrane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" descr="C:\Documents and Settings\Enrico\Documenti\acqua\mare002.gif"/>
          <p:cNvPicPr/>
          <p:nvPr/>
        </p:nvPicPr>
        <p:blipFill>
          <a:blip r:embed="rId5"/>
          <a:stretch/>
        </p:blipFill>
        <p:spPr>
          <a:xfrm>
            <a:off x="6172200" y="1600200"/>
            <a:ext cx="1096920" cy="982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9"/>
          <p:cNvPicPr/>
          <p:nvPr/>
        </p:nvPicPr>
        <p:blipFill>
          <a:blip r:embed="rId6"/>
          <a:stretch/>
        </p:blipFill>
        <p:spPr>
          <a:xfrm>
            <a:off x="457200" y="304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685800" y="35812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192" name="Picture 3" descr="2bottone"/>
          <p:cNvPicPr/>
          <p:nvPr/>
        </p:nvPicPr>
        <p:blipFill>
          <a:blip r:embed="rId2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2"/>
          <p:cNvSpPr txBox="1"/>
          <p:nvPr/>
        </p:nvSpPr>
        <p:spPr>
          <a:xfrm>
            <a:off x="2362320" y="2895480"/>
            <a:ext cx="56386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5" name="Picture 3" descr="C:\Documents and Settings\Enrico\Documenti\acqua\mare003.gif"/>
          <p:cNvPicPr/>
          <p:nvPr/>
        </p:nvPicPr>
        <p:blipFill>
          <a:blip r:embed="rId2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90720" y="380880"/>
            <a:ext cx="61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238880" y="3048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bottone0068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8880" y="3809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1"/>
          <p:cNvPicPr/>
          <p:nvPr/>
        </p:nvPicPr>
        <p:blipFill>
          <a:blip r:embed="rId8"/>
          <a:stretch/>
        </p:blipFill>
        <p:spPr>
          <a:xfrm>
            <a:off x="609480" y="228600"/>
            <a:ext cx="460440" cy="460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7"/>
          <p:cNvSpPr/>
          <p:nvPr/>
        </p:nvSpPr>
        <p:spPr>
          <a:xfrm>
            <a:off x="457200" y="838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Da che cosa è formata l’acqu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 flipH="1">
            <a:off x="716760" y="3124080"/>
            <a:ext cx="530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990720" y="25909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2362320" y="259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511200" y="2940120"/>
            <a:ext cx="6508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Cloro e ossig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Ossigeno e i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Ossigeno e idrog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3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1295280" y="1523880"/>
            <a:ext cx="109692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533520" y="198108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I pesci ga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I batt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I to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bottone00684"/>
          <p:cNvPicPr/>
          <p:nvPr/>
        </p:nvPicPr>
        <p:blipFill>
          <a:blip r:embed="rId2"/>
          <a:stretch/>
        </p:blipFill>
        <p:spPr>
          <a:xfrm>
            <a:off x="57150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bottone00684"/>
          <p:cNvPicPr/>
          <p:nvPr/>
        </p:nvPicPr>
        <p:blipFill>
          <a:blip r:embed="rId3"/>
          <a:stretch/>
        </p:blipFill>
        <p:spPr>
          <a:xfrm>
            <a:off x="571500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bottone00684"/>
          <p:cNvPicPr/>
          <p:nvPr/>
        </p:nvPicPr>
        <p:blipFill>
          <a:blip r:embed="rId4"/>
          <a:stretch/>
        </p:blipFill>
        <p:spPr>
          <a:xfrm>
            <a:off x="571500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609480" y="533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57200" y="5335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52280" y="838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Nel depuratore, chi divora le sostanze nocive sciolte nell’acqu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9" descr="C:\Documents and Settings\Enrico\Documenti\acqua\mare002.gif"/>
          <p:cNvPicPr/>
          <p:nvPr/>
        </p:nvPicPr>
        <p:blipFill>
          <a:blip r:embed="rId5"/>
          <a:stretch/>
        </p:blipFill>
        <p:spPr>
          <a:xfrm>
            <a:off x="6172200" y="1600200"/>
            <a:ext cx="1096920" cy="982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1"/>
          <p:cNvPicPr/>
          <p:nvPr/>
        </p:nvPicPr>
        <p:blipFill>
          <a:blip r:embed="rId6"/>
          <a:stretch/>
        </p:blipFill>
        <p:spPr>
          <a:xfrm>
            <a:off x="152280" y="380880"/>
            <a:ext cx="460440" cy="460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0"/>
          <p:cNvPicPr/>
          <p:nvPr/>
        </p:nvPicPr>
        <p:blipFill>
          <a:blip r:embed="rId7"/>
          <a:stretch/>
        </p:blipFill>
        <p:spPr>
          <a:xfrm>
            <a:off x="609480" y="380880"/>
            <a:ext cx="460440" cy="4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2362320" y="2895480"/>
            <a:ext cx="56386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8" name="Picture 3" descr="C:\Documents and Settings\Enrico\Documenti\acqua\mare003.gif"/>
          <p:cNvPicPr/>
          <p:nvPr/>
        </p:nvPicPr>
        <p:blipFill>
          <a:blip r:embed="rId2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209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828800" y="2057400"/>
            <a:ext cx="5486400" cy="16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RAVO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Picture 3" descr="C:\Documents and Settings\Enrico\Documenti\acqua\Veicoli%20vari041.gif"/>
          <p:cNvPicPr/>
          <p:nvPr/>
        </p:nvPicPr>
        <p:blipFill>
          <a:blip r:embed="rId1"/>
          <a:stretch/>
        </p:blipFill>
        <p:spPr>
          <a:xfrm>
            <a:off x="2743200" y="4191120"/>
            <a:ext cx="3505320" cy="1733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Documents and Settings\Enrico\Documenti\acqua\s0711-soft.gif"/>
          <p:cNvPicPr/>
          <p:nvPr/>
        </p:nvPicPr>
        <p:blipFill>
          <a:blip r:embed="rId2"/>
          <a:stretch/>
        </p:blipFill>
        <p:spPr>
          <a:xfrm>
            <a:off x="6553080" y="4114800"/>
            <a:ext cx="720720" cy="868320"/>
          </a:xfrm>
          <a:prstGeom prst="rect">
            <a:avLst/>
          </a:prstGeom>
          <a:ln w="0">
            <a:noFill/>
          </a:ln>
        </p:spPr>
      </p:pic>
      <p:sp>
        <p:nvSpPr>
          <p:cNvPr id="213" name="Pagina iniziale 1">
            <a:hlinkClick r:id="" action="ppaction://hlinkshowjump?jump=firstslide"/>
          </p:cNvPr>
          <p:cNvSpPr/>
          <p:nvPr/>
        </p:nvSpPr>
        <p:spPr>
          <a:xfrm>
            <a:off x="7740720" y="5924520"/>
            <a:ext cx="863640" cy="744480"/>
          </a:xfrm>
          <a:custGeom>
            <a:avLst/>
            <a:gdLst>
              <a:gd name="textAreaLeft" fmla="*/ 48240 w 863640"/>
              <a:gd name="textAreaRight" fmla="*/ 815400 w 863640"/>
              <a:gd name="textAreaTop" fmla="*/ 48240 h 744480"/>
              <a:gd name="textAreaBottom" fmla="*/ 696240 h 744480"/>
            </a:gdLst>
            <a:ahLst/>
            <a:rect l="textAreaLeft" t="textAreaTop" r="textAreaRight" b="textAreaBottom"/>
            <a:pathLst>
              <a:path w="25056" h="21600">
                <a:moveTo>
                  <a:pt x="0" y="0"/>
                </a:moveTo>
                <a:lnTo>
                  <a:pt x="25056" y="0"/>
                </a:lnTo>
                <a:lnTo>
                  <a:pt x="25056" y="21600"/>
                </a:lnTo>
                <a:lnTo>
                  <a:pt x="0" y="21600"/>
                </a:lnTo>
                <a:close/>
              </a:path>
              <a:path fill="lightenLess" w="25056" h="21600">
                <a:moveTo>
                  <a:pt x="0" y="0"/>
                </a:moveTo>
                <a:lnTo>
                  <a:pt x="25056" y="0"/>
                </a:lnTo>
                <a:lnTo>
                  <a:pt x="23656" y="1400"/>
                </a:lnTo>
                <a:lnTo>
                  <a:pt x="1400" y="1400"/>
                </a:lnTo>
                <a:close/>
              </a:path>
              <a:path fill="darken" w="25056" h="21600">
                <a:moveTo>
                  <a:pt x="25056" y="0"/>
                </a:moveTo>
                <a:lnTo>
                  <a:pt x="25056" y="21600"/>
                </a:lnTo>
                <a:lnTo>
                  <a:pt x="23656" y="20200"/>
                </a:lnTo>
                <a:lnTo>
                  <a:pt x="23656" y="1400"/>
                </a:lnTo>
                <a:close/>
              </a:path>
              <a:path fill="darkenLess" w="25056" h="21600">
                <a:moveTo>
                  <a:pt x="25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6" y="20200"/>
                </a:lnTo>
                <a:close/>
              </a:path>
              <a:path fill="lighten" w="25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56" h="21600">
                <a:moveTo>
                  <a:pt x="12528" y="3837"/>
                </a:moveTo>
                <a:lnTo>
                  <a:pt x="15104" y="6448"/>
                </a:lnTo>
                <a:lnTo>
                  <a:pt x="15104" y="4707"/>
                </a:lnTo>
                <a:lnTo>
                  <a:pt x="16880" y="4707"/>
                </a:lnTo>
                <a:lnTo>
                  <a:pt x="16880" y="8224"/>
                </a:lnTo>
                <a:lnTo>
                  <a:pt x="19491" y="10800"/>
                </a:lnTo>
                <a:lnTo>
                  <a:pt x="17837" y="10800"/>
                </a:lnTo>
                <a:lnTo>
                  <a:pt x="17837" y="17989"/>
                </a:lnTo>
                <a:lnTo>
                  <a:pt x="7219" y="17989"/>
                </a:lnTo>
                <a:lnTo>
                  <a:pt x="7219" y="10800"/>
                </a:lnTo>
                <a:lnTo>
                  <a:pt x="5565" y="10800"/>
                </a:lnTo>
                <a:close/>
              </a:path>
              <a:path fill="darkenLess" w="25056" h="21600">
                <a:moveTo>
                  <a:pt x="15104" y="6448"/>
                </a:moveTo>
                <a:lnTo>
                  <a:pt x="15104" y="4707"/>
                </a:lnTo>
                <a:lnTo>
                  <a:pt x="16880" y="4707"/>
                </a:lnTo>
                <a:lnTo>
                  <a:pt x="16880" y="8224"/>
                </a:lnTo>
                <a:close/>
              </a:path>
              <a:path fill="darkenLess" w="25056" h="21600">
                <a:moveTo>
                  <a:pt x="11605" y="14299"/>
                </a:moveTo>
                <a:lnTo>
                  <a:pt x="13450" y="14299"/>
                </a:lnTo>
                <a:lnTo>
                  <a:pt x="13450" y="17989"/>
                </a:lnTo>
                <a:lnTo>
                  <a:pt x="17837" y="17989"/>
                </a:lnTo>
                <a:lnTo>
                  <a:pt x="17837" y="10800"/>
                </a:lnTo>
                <a:lnTo>
                  <a:pt x="7219" y="10800"/>
                </a:lnTo>
                <a:lnTo>
                  <a:pt x="7219" y="17989"/>
                </a:lnTo>
                <a:lnTo>
                  <a:pt x="11605" y="1798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685800" y="35812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80" name="Picture 6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81" name="WordArt 7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362320" y="2895480"/>
            <a:ext cx="56386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Picture 5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80880" y="281952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Piogge fertilizz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Piogge inqu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 Piogge sa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bottone0068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72400" y="3733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304920" y="76212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he cosa sono  le piogge ac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3" descr="2"/>
          <p:cNvPicPr/>
          <p:nvPr/>
        </p:nvPicPr>
        <p:blipFill>
          <a:blip r:embed="rId8"/>
          <a:stretch/>
        </p:blipFill>
        <p:spPr>
          <a:xfrm>
            <a:off x="380880" y="228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1523880" y="1371600"/>
            <a:ext cx="109692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85800" y="3352680"/>
            <a:ext cx="7620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onsole"/>
              </a:rPr>
              <a:t>Bravo vento in poppa !!!</a:t>
            </a:r>
            <a:endParaRPr b="1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onsole"/>
              <a:ea typeface="Lucida Console"/>
            </a:endParaRPr>
          </a:p>
        </p:txBody>
      </p:sp>
      <p:pic>
        <p:nvPicPr>
          <p:cNvPr id="93" name="Picture 3" descr="2botton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5661000"/>
            <a:ext cx="826920" cy="82728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5638680" y="5715000"/>
            <a:ext cx="2229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ontin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1600200" y="762120"/>
            <a:ext cx="5472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...affondato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6" name="Picture 3" descr="C:\Documents and Settings\Enrico\Documenti\acqua\mare003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5627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5562720" y="5715000"/>
            <a:ext cx="1895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iprova</a:t>
            </a:r>
            <a:endParaRPr b="0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38080" y="3048120"/>
            <a:ext cx="61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a)Il cl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b)Il flu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c)Lo i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bottone0068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13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bottone0068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91320" y="3200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28600" y="83808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Lucida Handwriting"/>
              </a:rPr>
              <a:t>Quale sostanza protegge l’acqua da contaminazion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3"/>
          <p:cNvPicPr/>
          <p:nvPr/>
        </p:nvPicPr>
        <p:blipFill>
          <a:blip r:embed="rId6"/>
          <a:stretch/>
        </p:blipFill>
        <p:spPr>
          <a:xfrm>
            <a:off x="38088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bottone0068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C:\Documents and Settings\Enrico\Documenti\acqua\mare002.gif"/>
          <p:cNvPicPr/>
          <p:nvPr/>
        </p:nvPicPr>
        <p:blipFill>
          <a:blip r:embed="rId9"/>
          <a:stretch/>
        </p:blipFill>
        <p:spPr>
          <a:xfrm>
            <a:off x="6324480" y="1600200"/>
            <a:ext cx="1096920" cy="98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4:47:53Z</dcterms:created>
  <dc:creator>scuolagabelli</dc:creator>
  <dc:description/>
  <dc:language>en-US</dc:language>
  <cp:lastModifiedBy>Utente</cp:lastModifiedBy>
  <dcterms:modified xsi:type="dcterms:W3CDTF">2011-11-05T15:00:04Z</dcterms:modified>
  <cp:revision>24</cp:revision>
  <dc:subject/>
  <dc:title>Diapositiva 1</dc:title>
</cp:coreProperties>
</file>