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gif" ContentType="image/gif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9.jpeg" ContentType="image/jpeg"/>
  <Override PartName="/ppt/media/image12.jpeg" ContentType="image/jpeg"/>
  <Override PartName="/ppt/media/image6.png" ContentType="image/png"/>
  <Override PartName="/ppt/media/image3.gif" ContentType="image/gif"/>
  <Override PartName="/ppt/media/image7.png" ContentType="image/png"/>
  <Override PartName="/ppt/media/image1.jpeg" ContentType="image/jpeg"/>
  <Override PartName="/ppt/media/image10.jpeg" ContentType="image/jpeg"/>
  <Override PartName="/ppt/media/image8.jpeg" ContentType="image/jpeg"/>
  <Override PartName="/ppt/media/image2.gif" ContentType="image/gif"/>
  <Override PartName="/ppt/media/image5.png" ContentType="image/png"/>
  <Override PartName="/ppt/media/image4.png" ContentType="image/pn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10001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886B1-C22A-4CA0-8E76-2AF1B2245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D4A4E-15B6-415C-AA69-73317DE4B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E7F5E-1F32-4ED9-B02B-50FBF8159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8AEC3-7B61-46AE-A731-90CCB3FCC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DB00B-31BB-4EE2-83B2-B4CAB2EEB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1ADCE-10E2-4FA9-9C71-72D0263DA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31D93-88F4-444A-95B7-6B1ABB8C4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F20C4-7EAF-4ADA-B510-8268632B3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FD647-4012-48EC-8CE7-C90C90B9D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48D0B-B5D7-471A-9802-855687E39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4A0FD-CC9B-4F78-BE78-3B58E538B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859C0-B742-4714-BB3E-57CAA8F5A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BBE86-31D0-4D5D-BD12-E6EFBEB6E8CD}" type="slidenum">
              <a:rPr b="0" lang="it-IT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1143000" y="0"/>
            <a:ext cx="6858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CasellaDiTesto 2"/>
          <p:cNvSpPr/>
          <p:nvPr/>
        </p:nvSpPr>
        <p:spPr>
          <a:xfrm>
            <a:off x="324000" y="1268280"/>
            <a:ext cx="5327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ffff"/>
                </a:solidFill>
                <a:latin typeface="Baskerville Old Face"/>
              </a:rPr>
              <a:t>La classe 1^A 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ffff"/>
                </a:solidFill>
                <a:latin typeface="Baskerville Old Face"/>
              </a:rPr>
              <a:t>della 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ffff"/>
                </a:solidFill>
                <a:latin typeface="Baskerville Old Face"/>
              </a:rPr>
              <a:t>Scuola Secondaria 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ffff"/>
                </a:solidFill>
                <a:latin typeface="Baskerville Old Face"/>
              </a:rPr>
              <a:t>«Marie Curie»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ffff"/>
                </a:solidFill>
                <a:latin typeface="Baskerville Old Face"/>
              </a:rPr>
              <a:t> </a:t>
            </a:r>
            <a:r>
              <a:rPr b="0" lang="it-IT" sz="3600" spc="-1" strike="noStrike">
                <a:solidFill>
                  <a:srgbClr val="ffffff"/>
                </a:solidFill>
                <a:latin typeface="Baskerville Old Face"/>
              </a:rPr>
              <a:t>di San Martino Siccomario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CasellaDiTesto 3"/>
          <p:cNvSpPr/>
          <p:nvPr/>
        </p:nvSpPr>
        <p:spPr>
          <a:xfrm>
            <a:off x="5148360" y="1484280"/>
            <a:ext cx="338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Britannic Bold"/>
              </a:rPr>
              <a:t>presenta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CasellaDiTesto 4"/>
          <p:cNvSpPr/>
          <p:nvPr/>
        </p:nvSpPr>
        <p:spPr>
          <a:xfrm>
            <a:off x="1476360" y="595008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CasellaDiTesto 5"/>
          <p:cNvSpPr/>
          <p:nvPr/>
        </p:nvSpPr>
        <p:spPr>
          <a:xfrm>
            <a:off x="1116000" y="5445000"/>
            <a:ext cx="2160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Forte"/>
              </a:rPr>
              <a:t>A come ACQUA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Rettangolo 6"/>
          <p:cNvSpPr/>
          <p:nvPr/>
        </p:nvSpPr>
        <p:spPr>
          <a:xfrm>
            <a:off x="6300720" y="5589720"/>
            <a:ext cx="251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Kristen ITC"/>
              </a:rPr>
              <a:t>A come ACQUA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6000"/>
                            </p:stCondLst>
                            <p:childTnLst>
                              <p:par>
                                <p:cTn id="1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18440" cy="708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ffff"/>
                </a:solidFill>
                <a:latin typeface="Calibri"/>
              </a:rPr>
              <a:t>Un palombaro in bottiglia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2195280" y="1341000"/>
            <a:ext cx="649116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Abbiamo appeso un pupazzetto di plastica al cappuccio di una penna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Riempito d’acqua una bottiglia di plastica infiliamo dentro il «palombaro»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Il cappuccio deve affiorare appena sull’acqua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Versiamo ancora acqua ed avvitiamo bene il tappo  della bottiglia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Schiacciando la bottiglia osserviamo che il palombaro affonda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Allentando la presa  sulla bottiglia il palombaro risale in superficie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Il palombaro sale e scende perché quando infiliamo nell’acqua il cappuccio della penna, al di sotto viene intrappolata una bolla d’aria che rende il palombaro meno denso dell’acqua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Quando schiacciamo la bottiglia l’acqua comprime l’aria ed occupa più spazio nel cappuccio: il palombaro diventa perciò più denso ed affonda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Rallentando la presa l’aria si espande di nuovo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9" name="Immagine 5" descr="C:\Users\Utente\Documents\Scanned Documents\Immagine (130).jpg"/>
          <p:cNvPicPr/>
          <p:nvPr/>
        </p:nvPicPr>
        <p:blipFill>
          <a:blip r:embed="rId1"/>
          <a:srcRect l="2180" t="43467" r="71977" b="0"/>
          <a:stretch/>
        </p:blipFill>
        <p:spPr>
          <a:xfrm>
            <a:off x="395280" y="1484280"/>
            <a:ext cx="1581120" cy="41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00244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Calibri"/>
              </a:rPr>
              <a:t>Ed ora vogliamo mettervi alla prova……………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1" name="Picture 2" descr="http://t3.gstatic.com/images?q=tbn:ANd9GcSwkO02L5XsX-9odOUfzltJ5DbSKQFihfC7hTR4nDnkU0gVu5VU"/>
          <p:cNvPicPr/>
          <p:nvPr/>
        </p:nvPicPr>
        <p:blipFill>
          <a:blip r:embed="rId1"/>
          <a:stretch/>
        </p:blipFill>
        <p:spPr>
          <a:xfrm>
            <a:off x="2627280" y="1989000"/>
            <a:ext cx="42130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http://www.gifandgif.com/gif_animate/Scienza/scienza%20(21).gif"/>
          <p:cNvPicPr/>
          <p:nvPr/>
        </p:nvPicPr>
        <p:blipFill>
          <a:blip r:embed="rId1"/>
          <a:stretch/>
        </p:blipFill>
        <p:spPr>
          <a:xfrm>
            <a:off x="611280" y="1557360"/>
            <a:ext cx="3384360" cy="3130560"/>
          </a:xfrm>
          <a:prstGeom prst="rect">
            <a:avLst/>
          </a:prstGeom>
          <a:ln w="0">
            <a:noFill/>
          </a:ln>
        </p:spPr>
      </p:pic>
      <p:sp>
        <p:nvSpPr>
          <p:cNvPr id="48" name="CasellaDiTesto 1"/>
          <p:cNvSpPr/>
          <p:nvPr/>
        </p:nvSpPr>
        <p:spPr>
          <a:xfrm>
            <a:off x="1042920" y="620640"/>
            <a:ext cx="712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Calibri"/>
              </a:rPr>
              <a:t>I </a:t>
            </a:r>
            <a:r>
              <a:rPr b="0" lang="it-IT" sz="3600" spc="-1" strike="noStrike">
                <a:solidFill>
                  <a:srgbClr val="ffffff"/>
                </a:solidFill>
                <a:latin typeface="Calibri"/>
              </a:rPr>
              <a:t>NOSTRI</a:t>
            </a:r>
            <a:r>
              <a:rPr b="0" lang="it-IT" sz="3200" spc="-1" strike="noStrike">
                <a:solidFill>
                  <a:srgbClr val="ffffff"/>
                </a:solidFill>
                <a:latin typeface="Calibri"/>
              </a:rPr>
              <a:t> ESPERIMENTI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CasellaDiTesto 2"/>
          <p:cNvSpPr/>
          <p:nvPr/>
        </p:nvSpPr>
        <p:spPr>
          <a:xfrm>
            <a:off x="4140360" y="1484280"/>
            <a:ext cx="41767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Calibri"/>
              </a:rPr>
              <a:t>I vasi comunicanti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85840" indent="-2858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Calibri"/>
              </a:rPr>
              <a:t>La capillarità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85840" indent="-2858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Calibri"/>
              </a:rPr>
              <a:t>Il fiore che sboccia  sull’acqua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85840" indent="-2858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Calibri"/>
              </a:rPr>
              <a:t>La tensione superficiale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85840" indent="-2858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Calibri"/>
              </a:rPr>
              <a:t>L'incomprimibilità dell'acqua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85840" indent="-2858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Calibri"/>
              </a:rPr>
              <a:t>Prove di densità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85840" indent="-2858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Calibri"/>
              </a:rPr>
              <a:t>Un palombaro in bottiglia</a:t>
            </a:r>
            <a:br>
              <a:rPr sz="2800"/>
            </a:br>
            <a:r>
              <a:rPr b="0" lang="it-IT" sz="2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0" name="Picture 3" descr=""/>
          <p:cNvPicPr/>
          <p:nvPr/>
        </p:nvPicPr>
        <p:blipFill>
          <a:blip r:embed="rId2"/>
          <a:stretch/>
        </p:blipFill>
        <p:spPr>
          <a:xfrm>
            <a:off x="6948360" y="4292640"/>
            <a:ext cx="2024280" cy="209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Calibri"/>
              </a:rPr>
              <a:t>i vasi comunicanti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3276360" y="1484280"/>
            <a:ext cx="526572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alibri"/>
              </a:rPr>
              <a:t>Abbiamo visto che l'acqua come tutti i liquidi assume la forma del recipiente che la contiene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alibri"/>
              </a:rPr>
              <a:t>Osserviamo che cosa succede versando dell'acqua in un particolare recipiente</a:t>
            </a:r>
            <a:r>
              <a:rPr b="0" lang="it-IT" sz="1400" spc="-1" strike="noStrike">
                <a:solidFill>
                  <a:srgbClr val="ffffff"/>
                </a:solidFill>
                <a:latin typeface="Calibri"/>
              </a:rPr>
              <a:t>, </a:t>
            </a:r>
            <a:r>
              <a:rPr b="0" lang="it-IT" sz="2000" spc="-1" strike="noStrike">
                <a:solidFill>
                  <a:srgbClr val="ffffff"/>
                </a:solidFill>
                <a:latin typeface="Calibri"/>
              </a:rPr>
              <a:t>formato a sua volta da vari recipienti di forma e dimensioni diverse e tutti fra loro comunicanti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it-IT" sz="2400" spc="-1" strike="noStrike">
                <a:solidFill>
                  <a:srgbClr val="ffffff"/>
                </a:solidFill>
                <a:latin typeface="Calibri"/>
              </a:rPr>
              <a:t>L'acqua raggiunge lo stesso livello in tutti i vari recipienti.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alibri"/>
              </a:rPr>
              <a:t>Tale principio, detto principio dei vasi comunicanti, viene sfruttato per travasare i liquidi con i sifoni.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it-IT" sz="2000" spc="-1" strike="noStrike">
                <a:solidFill>
                  <a:srgbClr val="ffffff"/>
                </a:solidFill>
                <a:latin typeface="Calibri"/>
              </a:rPr>
              <a:t>Questo principio è importantissimo per  il sistema di tubature e l’acquedotto che porta a casa nostra l’acqua corrente!!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endParaRPr b="0" lang="en-US" sz="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3" name="Picture 2" descr="http://www.galois.it/drupal/immagini_galois/fluidi/vasi.jpg"/>
          <p:cNvPicPr/>
          <p:nvPr/>
        </p:nvPicPr>
        <p:blipFill>
          <a:blip r:embed="rId1"/>
          <a:stretch/>
        </p:blipFill>
        <p:spPr>
          <a:xfrm>
            <a:off x="324000" y="1989000"/>
            <a:ext cx="2771640" cy="18828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6" descr="http://arcweb.medialighieri.it/images/serbatoio.gif"/>
          <p:cNvPicPr/>
          <p:nvPr/>
        </p:nvPicPr>
        <p:blipFill>
          <a:blip r:embed="rId2"/>
          <a:srcRect l="0" t="0" r="0" b="6240"/>
          <a:stretch/>
        </p:blipFill>
        <p:spPr>
          <a:xfrm>
            <a:off x="395280" y="4437000"/>
            <a:ext cx="2844720" cy="166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Calibri"/>
              </a:rPr>
              <a:t>La capillarità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203280" y="1267920"/>
            <a:ext cx="561636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ffffff"/>
                </a:solidFill>
                <a:latin typeface="Calibri"/>
              </a:rPr>
              <a:t>Osserviamo adesso lo stesso fenomeno in vasi comunicanti un po' particolari, formati, da tubi via via sempre più stretti; l'ultimo tubicino il più sottile, viene chiamato capillare. 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ffffff"/>
                </a:solidFill>
                <a:latin typeface="Calibri"/>
              </a:rPr>
              <a:t>Invece di raggiungere lo stesso livello in tutti i tubicini, l'acqua raggiunge livelli più alti via via che i tubi diventano più stretti; nel capillare infatti il livello è decisamente più alto.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it-IT" sz="2200" spc="-1" strike="noStrike">
                <a:solidFill>
                  <a:srgbClr val="ffffff"/>
                </a:solidFill>
                <a:latin typeface="Calibri"/>
              </a:rPr>
              <a:t>Questo fenomeno si verifica perché l'acqua possiede una particolare forza, detta forza di adesione, che la fa aderire alle pareti del recipiente con cui viene a contatto; la superficie di contatto è più grande rispetto alla quantità d'acqua, proprio nel capillare in cui l'acqua si "arrampica" raggiungendo il livello più alto. </a:t>
            </a:r>
            <a:br>
              <a:rPr sz="2200"/>
            </a:br>
            <a:br>
              <a:rPr sz="2200"/>
            </a:b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7" name="Picture 8" descr="http://www.inftube.com/files/fisica/549_poze/image004.gif"/>
          <p:cNvPicPr/>
          <p:nvPr/>
        </p:nvPicPr>
        <p:blipFill>
          <a:blip r:embed="rId1"/>
          <a:stretch/>
        </p:blipFill>
        <p:spPr>
          <a:xfrm>
            <a:off x="272880" y="1484280"/>
            <a:ext cx="2772000" cy="15843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0" descr="http://www.funsci.com/fun3_it/esper2/esper2_11.jpg"/>
          <p:cNvPicPr/>
          <p:nvPr/>
        </p:nvPicPr>
        <p:blipFill>
          <a:blip r:embed="rId2"/>
          <a:stretch/>
        </p:blipFill>
        <p:spPr>
          <a:xfrm>
            <a:off x="360360" y="4221000"/>
            <a:ext cx="2595600" cy="18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Calibri"/>
              </a:rPr>
              <a:t>Il fiore che sboccia sull’acqua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3419280" y="1557360"/>
            <a:ext cx="52052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alibri"/>
              </a:rPr>
              <a:t>Abbiamo riprodotto su un foglio di carta la sagoma che si vede nella illustrazione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alibri"/>
              </a:rPr>
              <a:t>Dopo averla ritagliata abbiamo piegato verso l’interno i «petali»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alibri"/>
              </a:rPr>
              <a:t>Appoggiando il fiore di carta sull’acqua……. Il fiore si apre!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alibri"/>
              </a:rPr>
              <a:t>…</a:t>
            </a:r>
            <a:r>
              <a:rPr b="0" lang="it-IT" sz="2000" spc="-1" strike="noStrike">
                <a:solidFill>
                  <a:srgbClr val="ffffff"/>
                </a:solidFill>
                <a:latin typeface="Calibri"/>
              </a:rPr>
              <a:t>.. L’acqua penetra per capillarità nei piccoli spazi vuoti che ci sono tra le fibre della carta e la gonfia, di conseguenza le piegature si distendono facendo aprire il fiore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alibri"/>
              </a:rPr>
              <a:t>Il fenomeno della capillarità è di fondamentale importanza per i </a:t>
            </a:r>
            <a:r>
              <a:rPr b="1" lang="it-IT" sz="2000" spc="-1" strike="noStrike">
                <a:solidFill>
                  <a:srgbClr val="ffffff"/>
                </a:solidFill>
                <a:latin typeface="Calibri"/>
              </a:rPr>
              <a:t>vegetali</a:t>
            </a:r>
            <a:r>
              <a:rPr b="0" lang="it-IT" sz="2000" spc="-1" strike="noStrike">
                <a:solidFill>
                  <a:srgbClr val="ffffff"/>
                </a:solidFill>
                <a:latin typeface="Calibri"/>
              </a:rPr>
              <a:t>:  l’acqua diffonde attraverso i pori del terreno e sale fino alle foglie attraverso i vasi conduttori delle piante vincendo la forza di gravità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1" name="Picture 2" descr="msotw9_temp0"/>
          <p:cNvPicPr/>
          <p:nvPr/>
        </p:nvPicPr>
        <p:blipFill>
          <a:blip r:embed="rId1"/>
          <a:stretch/>
        </p:blipFill>
        <p:spPr>
          <a:xfrm>
            <a:off x="684360" y="1628640"/>
            <a:ext cx="2396880" cy="42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Calibri"/>
              </a:rPr>
              <a:t>La tensione superficiale 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3276720" y="1646280"/>
            <a:ext cx="5410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alibri"/>
              </a:rPr>
              <a:t>L’acqua è fluida: può essere versata e vi si possono immergere degli oggetti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alibri"/>
              </a:rPr>
              <a:t>Le molecole che la costituiscono , infatti, si muovono senza separarsi, perché si attirano a vicenda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alibri"/>
              </a:rPr>
              <a:t>Le molecole della superficie, non avendo altre molecole che le attirino dall’alto, sono legate fra loro più tenacemente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alibri"/>
              </a:rPr>
              <a:t>È proprio questa tensione superficiale che permette ad alcuni insetti di camminare sull’acqua  e a noi di fare le bolle di sapon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523800" y="1628640"/>
            <a:ext cx="2667240" cy="21052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4" descr="026burbuja.gif (15687 bytes)"/>
          <p:cNvPicPr/>
          <p:nvPr/>
        </p:nvPicPr>
        <p:blipFill>
          <a:blip r:embed="rId2"/>
          <a:stretch/>
        </p:blipFill>
        <p:spPr>
          <a:xfrm>
            <a:off x="523800" y="3860640"/>
            <a:ext cx="255420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Calibri"/>
              </a:rPr>
              <a:t>Sospeso sull’acqua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CasellaDiTesto 2"/>
          <p:cNvSpPr/>
          <p:nvPr/>
        </p:nvSpPr>
        <p:spPr>
          <a:xfrm>
            <a:off x="971640" y="1333440"/>
            <a:ext cx="73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Calibri"/>
              </a:rPr>
              <a:t>La tensione superficiale dà l'impressione che l'acqua abbia una sorte di pelle elastica e sottile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CasellaDiTesto 3"/>
          <p:cNvSpPr/>
          <p:nvPr/>
        </p:nvSpPr>
        <p:spPr>
          <a:xfrm>
            <a:off x="3203640" y="2205000"/>
            <a:ext cx="52560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Versiamo l'acqua in un bicchiere ed appoggiamo con cura l'ago sulla superficie dell'acqua in modo che non si bagni completamente. Si può osservare che l'acqua sostiene l'ago senza lasciarlo affondare.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Per facilitare la riuscita di questo tentativo usiamo una strisciolina di carta e su questa adagiamo l'ago. Piano piano, l'acqua inzupperà la strisciolina che finirà per affondare, mentre l'ago rimarrà alla superficie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E' possibile anche ripetere l'esperimento utilizzando una graffetta o una lametta</a:t>
            </a:r>
            <a:br>
              <a:rPr sz="1800"/>
            </a:br>
            <a:br>
              <a:rPr sz="1800"/>
            </a:b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Osservando da vicino si nota come questi oggetti non stiano galleggiando sull'acqua ma vi sono proprio appoggiati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9" name="Picture 2" descr="http://ic-marconi.scuolaer.it/SitoMarconi/Nuovo/Documentazione/Primaria/bambini_file/tensSuperfic.jpg"/>
          <p:cNvPicPr/>
          <p:nvPr/>
        </p:nvPicPr>
        <p:blipFill>
          <a:blip r:embed="rId1"/>
          <a:srcRect l="34181" t="7202" r="8717" b="5428"/>
          <a:stretch/>
        </p:blipFill>
        <p:spPr>
          <a:xfrm>
            <a:off x="971640" y="4322880"/>
            <a:ext cx="1914480" cy="21952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4" descr="http://www.portoveneredidattica.it/ICPDID/mediaGrazie/Scienza&amp;tecnologia/Acqua/Acqua_23.jpg"/>
          <p:cNvPicPr/>
          <p:nvPr/>
        </p:nvPicPr>
        <p:blipFill>
          <a:blip r:embed="rId2"/>
          <a:stretch/>
        </p:blipFill>
        <p:spPr>
          <a:xfrm>
            <a:off x="776160" y="2276640"/>
            <a:ext cx="2305080" cy="165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Calibri"/>
              </a:rPr>
              <a:t>L'incomprimibilità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CasellaDiTesto 2"/>
          <p:cNvSpPr/>
          <p:nvPr/>
        </p:nvSpPr>
        <p:spPr>
          <a:xfrm>
            <a:off x="1187280" y="1413000"/>
            <a:ext cx="6840720" cy="32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Calibri"/>
              </a:rPr>
              <a:t>L'acqua, come tutti i liquidi, ha un volume proprio ed è incomprimibile cioè non è possibile ridurre il suo volume esercitando sulla sua superficie una pressione.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it-IT" sz="1800" spc="-1" strike="noStrike">
                <a:solidFill>
                  <a:srgbClr val="ffffff"/>
                </a:solidFill>
                <a:latin typeface="Calibri"/>
              </a:rPr>
              <a:t>Riempiamo di acqua la siringa, chiudiamo il foro di uscita con un dito e spingiamo lo stantuffo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Calibri"/>
              </a:rPr>
              <a:t>Osserviamo che lo stantuffo non scende ,anche se spingiamo forte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3" name="Picture 4" descr="http://2.bp.blogspot.com/_mhNf2-w4ekI/TKwuUu4dfVI/AAAAAAAABM8/nsOwycHGo6w/s1600/siringhe.jpg"/>
          <p:cNvPicPr/>
          <p:nvPr/>
        </p:nvPicPr>
        <p:blipFill>
          <a:blip r:embed="rId1"/>
          <a:srcRect l="3573" t="0" r="0" b="69176"/>
          <a:stretch/>
        </p:blipFill>
        <p:spPr>
          <a:xfrm>
            <a:off x="1692360" y="4221000"/>
            <a:ext cx="5614920" cy="18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Calibri"/>
              </a:rPr>
              <a:t>Prove di densità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5" name="Picture 2" descr="http://img300.imageshack.us/img300/6620/liquididifferentiior.jpg"/>
          <p:cNvPicPr/>
          <p:nvPr/>
        </p:nvPicPr>
        <p:blipFill>
          <a:blip r:embed="rId1"/>
          <a:srcRect l="11253" t="6057" r="13500" b="12258"/>
          <a:stretch/>
        </p:blipFill>
        <p:spPr>
          <a:xfrm>
            <a:off x="611280" y="1700280"/>
            <a:ext cx="2448000" cy="4287600"/>
          </a:xfrm>
          <a:prstGeom prst="rect">
            <a:avLst/>
          </a:prstGeom>
          <a:ln w="0">
            <a:noFill/>
          </a:ln>
        </p:spPr>
      </p:pic>
      <p:sp>
        <p:nvSpPr>
          <p:cNvPr id="76" name="CasellaDiTesto 3"/>
          <p:cNvSpPr/>
          <p:nvPr/>
        </p:nvSpPr>
        <p:spPr>
          <a:xfrm>
            <a:off x="3492360" y="1628640"/>
            <a:ext cx="48960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alibri"/>
              </a:rPr>
              <a:t>Versiamo in un recipiente trasparente prima il miele e poi l’olio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alibri"/>
              </a:rPr>
              <a:t>Osserviamo che i liquidi non si mescolano, ma si dispongono a strati: l’olio galleggia sul miele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alibri"/>
              </a:rPr>
              <a:t>Versiamo quindi l’acqua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alibri"/>
              </a:rPr>
              <a:t>L’acqua affonda nell’olio, ma galleggia sul miele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alibri"/>
              </a:rPr>
              <a:t>…… </a:t>
            </a:r>
            <a:r>
              <a:rPr b="0" lang="it-IT" sz="2000" spc="-1" strike="noStrike">
                <a:solidFill>
                  <a:srgbClr val="ffffff"/>
                </a:solidFill>
                <a:latin typeface="Calibri"/>
              </a:rPr>
              <a:t>i tre liquidi hanno densità differenti: l’olio che ha densità minore galleggia sia sul miele che sull’acqua, il miele resta sul fondo perché ha la densità maggiore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6T11:44:32Z</dcterms:created>
  <dc:creator>alessandro</dc:creator>
  <dc:description/>
  <dc:language>en-US</dc:language>
  <cp:lastModifiedBy>Utente</cp:lastModifiedBy>
  <cp:lastPrinted>2011-11-10T08:41:00Z</cp:lastPrinted>
  <dcterms:modified xsi:type="dcterms:W3CDTF">2011-11-10T08:47:14Z</dcterms:modified>
  <cp:revision>45</cp:revision>
  <dc:subject/>
  <dc:title>Diapositiva 1</dc:title>
</cp:coreProperties>
</file>